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555288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896D-CEA5-4EAD-BCA6-26CFC5667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615312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42880" y="6355800"/>
            <a:ext cx="615312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C69E-AC62-451E-8AF6-33BFDE6F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5760" y="304812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42880" y="635580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695760" y="635580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98E9-1526-40AF-B762-E660B045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198108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623320" y="3048120"/>
            <a:ext cx="198108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703760" y="3048120"/>
            <a:ext cx="198108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42880" y="6355800"/>
            <a:ext cx="198108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623320" y="6355800"/>
            <a:ext cx="198108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4703760" y="6355800"/>
            <a:ext cx="198108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16EC-E4E4-41F0-9973-8A56DCCF8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42880" y="3048120"/>
            <a:ext cx="6153120" cy="63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FBE0-CB81-42E1-A44D-0BF9DB9B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6153120" cy="6332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C170-82E7-4BF0-8CB8-02B88CA0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3002400" cy="6332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695760" y="3048120"/>
            <a:ext cx="3002400" cy="6332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642F-51F6-45EC-A9EB-97F03C94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5901-63B8-4EA1-9B6C-16B13AE0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42880" y="936720"/>
            <a:ext cx="6153120" cy="81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8050-05FD-49FA-AD9C-881044A1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48120"/>
            <a:ext cx="3002400" cy="6332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35580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123D-86AB-4441-95A5-6BF0D356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3002400" cy="6332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95760" y="304812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695760" y="635580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316B-3BEF-4D16-877F-BC6C6347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42880" y="304812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95760" y="3048120"/>
            <a:ext cx="300240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42880" y="6355800"/>
            <a:ext cx="6153120" cy="3020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2BB2-5853-4EC7-A3AE-DA2B9B1C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hyperlink" Target="http://www.copernicus.org/egsagueug/index.html" TargetMode="External"/><Relationship Id="rId7" Type="http://schemas.openxmlformats.org/officeDocument/2006/relationships/hyperlink" Target="http://www.copernicus.org/egsagueug/index.html" TargetMode="External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36720"/>
            <a:ext cx="6153120" cy="1758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48120"/>
            <a:ext cx="6153120" cy="6332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572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00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79480" indent="-2523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9240" indent="-2588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89240" indent="-2588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89240" indent="-25884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617040"/>
            <a:ext cx="1508040" cy="703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GB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617040"/>
            <a:ext cx="2292480" cy="703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GB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617040"/>
            <a:ext cx="1508040" cy="703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GB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7D747522-3E4E-480E-A3CA-D14CAEBCF811}" type="slidenum"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9982080"/>
            <a:ext cx="6950160" cy="18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8080" y="9982080"/>
            <a:ext cx="556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800" spc="-1" strike="noStrike">
                <a:solidFill>
                  <a:srgbClr val="0000ff"/>
                </a:solidFill>
                <a:latin typeface="Times New Roman"/>
              </a:rPr>
              <a:t>CDPP</a:t>
            </a:r>
            <a:r>
              <a:rPr b="0" i="1" lang="en-GB" sz="800" spc="-1" strike="noStrike">
                <a:solidFill>
                  <a:srgbClr val="0000ff"/>
                </a:solidFill>
                <a:latin typeface="Times New Roman"/>
              </a:rPr>
              <a:t> is jointly funded by </a:t>
            </a:r>
            <a:r>
              <a:rPr b="1" i="1" lang="en-GB" sz="800" spc="-1" strike="noStrike">
                <a:solidFill>
                  <a:srgbClr val="0000ff"/>
                </a:solidFill>
                <a:latin typeface="Times New Roman"/>
              </a:rPr>
              <a:t>CNES</a:t>
            </a:r>
            <a:r>
              <a:rPr b="0" i="1" lang="en-GB" sz="800" spc="-1" strike="noStrike">
                <a:solidFill>
                  <a:srgbClr val="0000ff"/>
                </a:solidFill>
                <a:latin typeface="Times New Roman"/>
              </a:rPr>
              <a:t> (French Space Agency) and </a:t>
            </a:r>
            <a:r>
              <a:rPr b="1" i="1" lang="en-GB" sz="800" spc="-1" strike="noStrike">
                <a:solidFill>
                  <a:srgbClr val="0000ff"/>
                </a:solidFill>
                <a:latin typeface="Times New Roman"/>
              </a:rPr>
              <a:t>CNRS</a:t>
            </a:r>
            <a:r>
              <a:rPr b="0" i="1" lang="en-GB" sz="800" spc="-1" strike="noStrike">
                <a:solidFill>
                  <a:srgbClr val="0000ff"/>
                </a:solidFill>
                <a:latin typeface="Times New Roman"/>
              </a:rPr>
              <a:t> (French National Centre for Scientific Research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228600" y="71280"/>
            <a:ext cx="1274760" cy="846360"/>
          </a:xfrm>
          <a:prstGeom prst="rect">
            <a:avLst/>
          </a:prstGeom>
          <a:ln w="0">
            <a:noFill/>
          </a:ln>
        </p:spPr>
      </p:pic>
      <p:pic>
        <p:nvPicPr>
          <p:cNvPr id="8" name="logo_cnes" descr=""/>
          <p:cNvPicPr/>
          <p:nvPr/>
        </p:nvPicPr>
        <p:blipFill>
          <a:blip r:embed="rId4"/>
          <a:stretch/>
        </p:blipFill>
        <p:spPr>
          <a:xfrm>
            <a:off x="2133720" y="10134720"/>
            <a:ext cx="380880" cy="315720"/>
          </a:xfrm>
          <a:prstGeom prst="rect">
            <a:avLst/>
          </a:prstGeom>
          <a:ln w="0">
            <a:noFill/>
          </a:ln>
        </p:spPr>
      </p:pic>
      <p:pic>
        <p:nvPicPr>
          <p:cNvPr id="9" name="LogoCNRSMoyen" descr=""/>
          <p:cNvPicPr/>
          <p:nvPr/>
        </p:nvPicPr>
        <p:blipFill>
          <a:blip r:embed="rId5"/>
          <a:stretch/>
        </p:blipFill>
        <p:spPr>
          <a:xfrm>
            <a:off x="4724280" y="10210680"/>
            <a:ext cx="468360" cy="23508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2514600" y="10339560"/>
            <a:ext cx="228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Nice-2003: EGS-AGU-EUG Joint </a:t>
            </a:r>
            <a:r>
              <a:rPr b="0" lang="fr-FR" sz="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Assemb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52280" y="1371600"/>
            <a:ext cx="695016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52280" y="1523880"/>
            <a:ext cx="6934320" cy="830592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D. P. P.</a:t>
            </a:r>
            <a:br>
              <a:rPr sz="2800"/>
            </a:br>
            <a:r>
              <a:rPr b="1" lang="en-US" sz="2100" spc="-1" strike="noStrike">
                <a:solidFill>
                  <a:srgbClr val="0000ff"/>
                </a:solidFill>
                <a:latin typeface="Times New Roman"/>
              </a:rPr>
              <a:t>The MAGLIB and ROCOTLIB software libraries</a:t>
            </a:r>
            <a:br>
              <a:rPr sz="2100"/>
            </a:b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http://cdpp.cesr.fr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e-mail: cdpp@cesr.f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87720" y="5607000"/>
            <a:ext cx="203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63880" y="3486240"/>
            <a:ext cx="5526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-2043000" y="4749840"/>
          <a:ext cx="1136520" cy="190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043000" y="4749840"/>
                    <a:ext cx="113652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2666880" y="1066680"/>
            <a:ext cx="30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27360" y="1676520"/>
            <a:ext cx="4219560" cy="19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6666"/>
                </a:solidFill>
                <a:latin typeface="Times New Roman"/>
              </a:rPr>
              <a:t>The </a:t>
            </a:r>
            <a:r>
              <a:rPr b="1" lang="fr-FR" sz="1200" spc="-1" strike="noStrike">
                <a:solidFill>
                  <a:srgbClr val="006666"/>
                </a:solidFill>
                <a:latin typeface="Times New Roman"/>
              </a:rPr>
              <a:t>MAGLIB</a:t>
            </a:r>
            <a:r>
              <a:rPr b="0" lang="fr-FR" sz="1000" spc="-1" strike="noStrike">
                <a:solidFill>
                  <a:srgbClr val="006666"/>
                </a:solidFill>
                <a:latin typeface="Times New Roman"/>
              </a:rPr>
              <a:t> library is a large set of </a:t>
            </a:r>
            <a:r>
              <a:rPr b="1" lang="fr-FR" sz="1000" spc="-1" strike="noStrike">
                <a:solidFill>
                  <a:srgbClr val="006666"/>
                </a:solidFill>
                <a:latin typeface="Times New Roman"/>
              </a:rPr>
              <a:t>general Geographic, Geophysics </a:t>
            </a:r>
            <a:br>
              <a:rPr sz="1000"/>
            </a:br>
            <a:r>
              <a:rPr b="1" lang="fr-FR" sz="1000" spc="-1" strike="noStrike">
                <a:solidFill>
                  <a:srgbClr val="006666"/>
                </a:solidFill>
                <a:latin typeface="Times New Roman"/>
              </a:rPr>
              <a:t>and Geomagnetic calculation modules</a:t>
            </a:r>
            <a:r>
              <a:rPr b="0" lang="fr-FR" sz="1000" spc="-1" strike="noStrike">
                <a:solidFill>
                  <a:srgbClr val="006666"/>
                </a:solidFill>
                <a:latin typeface="Times New Roman"/>
              </a:rPr>
              <a:t> developed by </a:t>
            </a:r>
            <a:r>
              <a:rPr b="1" lang="fr-FR" sz="1000" spc="-1" strike="noStrike">
                <a:solidFill>
                  <a:srgbClr val="006666"/>
                </a:solidFill>
                <a:latin typeface="Times New Roman"/>
              </a:rPr>
              <a:t>Jean-Claude Kosik</a:t>
            </a:r>
            <a:r>
              <a:rPr b="0" lang="fr-FR" sz="1000" spc="-1" strike="noStrike">
                <a:solidFill>
                  <a:srgbClr val="006666"/>
                </a:solidFill>
                <a:latin typeface="Times New Roman"/>
              </a:rPr>
              <a:t> (French Space Agency). It results from a thirty-year experience in mission analysis and geophysics software for magnetospheric projects as well as personal research on charged particle motion and quantitative magnetic field modelling</a:t>
            </a:r>
            <a:r>
              <a:rPr b="0" lang="fr-FR" sz="10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33cc"/>
                </a:solidFill>
                <a:latin typeface="Times New Roman"/>
              </a:rPr>
              <a:t>The 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ROCOTLIB</a:t>
            </a:r>
            <a:r>
              <a:rPr b="0" lang="en-GB" sz="1000" spc="-1" strike="noStrike">
                <a:solidFill>
                  <a:srgbClr val="3333cc"/>
                </a:solidFill>
                <a:latin typeface="Times New Roman"/>
              </a:rPr>
              <a:t> library (RObert’s COordinate Transformation LIBrary) </a:t>
            </a:r>
            <a:br>
              <a:rPr sz="1000"/>
            </a:br>
            <a:r>
              <a:rPr b="0" lang="en-GB" sz="1000" spc="-1" strike="noStrike">
                <a:solidFill>
                  <a:srgbClr val="3333cc"/>
                </a:solidFill>
                <a:latin typeface="Times New Roman"/>
              </a:rPr>
              <a:t>has been developed </a:t>
            </a:r>
            <a:r>
              <a:rPr b="1" lang="en-GB" sz="1000" spc="-1" strike="noStrike">
                <a:solidFill>
                  <a:srgbClr val="3333cc"/>
                </a:solidFill>
                <a:latin typeface="Times New Roman"/>
              </a:rPr>
              <a:t>by Patrick Robert </a:t>
            </a:r>
            <a:r>
              <a:rPr b="0" lang="en-GB" sz="1000" spc="-1" strike="noStrike">
                <a:solidFill>
                  <a:srgbClr val="3333cc"/>
                </a:solidFill>
                <a:latin typeface="Times New Roman"/>
              </a:rPr>
              <a:t>(CNRS/CETP - Centre d'étude </a:t>
            </a:r>
            <a:br>
              <a:rPr sz="1000"/>
            </a:br>
            <a:r>
              <a:rPr b="0" lang="en-GB" sz="1000" spc="-1" strike="noStrike">
                <a:solidFill>
                  <a:srgbClr val="3333cc"/>
                </a:solidFill>
                <a:latin typeface="Times New Roman"/>
              </a:rPr>
              <a:t>des Environnements Terrestre et Planétaires - France). It is a set of modules to </a:t>
            </a:r>
            <a:r>
              <a:rPr b="1" lang="en-GB" sz="1000" spc="-1" strike="noStrike">
                <a:solidFill>
                  <a:srgbClr val="3333cc"/>
                </a:solidFill>
                <a:latin typeface="Times New Roman"/>
              </a:rPr>
              <a:t>perform transformations between the various coordinate systems used in geophysical and magnetospheric studies</a:t>
            </a:r>
            <a:r>
              <a:rPr b="0" lang="en-GB" sz="10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6934320"/>
            <a:ext cx="1218960" cy="30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Times New Roman"/>
              </a:rPr>
              <a:t>Rocotl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7299360"/>
            <a:ext cx="220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12 coordinates systems :</a:t>
            </a:r>
            <a:br>
              <a:rPr sz="800"/>
            </a:b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GEI : </a:t>
            </a:r>
            <a:r>
              <a:rPr b="0" lang="fr-FR" sz="800" spc="-1" strike="noStrike">
                <a:solidFill>
                  <a:srgbClr val="0000ff"/>
                </a:solidFill>
                <a:latin typeface="Times New Roman"/>
              </a:rPr>
              <a:t>Geocentric Equatorial Inertial system</a:t>
            </a: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  </a:t>
            </a:r>
            <a:br>
              <a:rPr sz="800"/>
            </a:b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GEO : </a:t>
            </a:r>
            <a:r>
              <a:rPr b="0" lang="fr-FR" sz="800" spc="-1" strike="noStrike">
                <a:solidFill>
                  <a:srgbClr val="0000ff"/>
                </a:solidFill>
                <a:latin typeface="Times New Roman"/>
              </a:rPr>
              <a:t>Geographic system</a:t>
            </a: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  </a:t>
            </a:r>
            <a:br>
              <a:rPr sz="800"/>
            </a:b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MAG : </a:t>
            </a:r>
            <a:r>
              <a:rPr b="0" lang="fr-FR" sz="800" spc="-1" strike="noStrike">
                <a:solidFill>
                  <a:srgbClr val="0000ff"/>
                </a:solidFill>
                <a:latin typeface="Times New Roman"/>
              </a:rPr>
              <a:t>Geomagnetic system</a:t>
            </a: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	</a:t>
            </a:r>
            <a:br>
              <a:rPr sz="800"/>
            </a:br>
            <a:r>
              <a:rPr b="0" lang="fr-FR" sz="800" spc="-1" strike="noStrike">
                <a:solidFill>
                  <a:srgbClr val="0000ff"/>
                </a:solidFill>
                <a:latin typeface="Times New Roman"/>
              </a:rPr>
              <a:t>and also</a:t>
            </a: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 GSE,GSEQ, GSM, SM, DM, </a:t>
            </a:r>
            <a:br>
              <a:rPr sz="800"/>
            </a:b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VDH, SR, SR2, MF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048120" y="7848720"/>
            <a:ext cx="2590560" cy="1922400"/>
            <a:chOff x="3048120" y="7848720"/>
            <a:chExt cx="2590560" cy="1922400"/>
          </a:xfrm>
        </p:grpSpPr>
        <p:graphicFrame>
          <p:nvGraphicFramePr>
            <p:cNvPr id="59" name=""/>
            <p:cNvGraphicFramePr/>
            <p:nvPr/>
          </p:nvGraphicFramePr>
          <p:xfrm>
            <a:off x="3209760" y="7848720"/>
            <a:ext cx="2023920" cy="170316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209760" y="7848720"/>
                      <a:ext cx="2023920" cy="170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" name=""/>
            <p:cNvSpPr/>
            <p:nvPr/>
          </p:nvSpPr>
          <p:spPr>
            <a:xfrm>
              <a:off x="3048120" y="9524880"/>
              <a:ext cx="2590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ff"/>
                  </a:solidFill>
                  <a:latin typeface="Times New Roman"/>
                </a:rPr>
                <a:t>Schematic diagram of transformati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442800" y="3870360"/>
            <a:ext cx="631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660066"/>
                </a:solidFill>
                <a:latin typeface="Times New Roman"/>
              </a:rPr>
              <a:t>Both libraries are freely delivered with portable source code, test programs, mathematical description and user manual</a:t>
            </a:r>
            <a:r>
              <a:rPr b="0" lang="fr-FR" sz="1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6934320"/>
            <a:ext cx="302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ff"/>
                </a:solidFill>
                <a:latin typeface="Times New Roman"/>
              </a:rPr>
              <a:t>A mathematical description </a:t>
            </a:r>
            <a:br>
              <a:rPr sz="1000"/>
            </a:br>
            <a:r>
              <a:rPr b="1" lang="fr-FR" sz="1000" spc="-1" strike="noStrike">
                <a:solidFill>
                  <a:srgbClr val="0000ff"/>
                </a:solidFill>
                <a:latin typeface="Times New Roman"/>
              </a:rPr>
              <a:t>of each transformation e.g.</a:t>
            </a:r>
            <a:r>
              <a:rPr b="1" lang="fr-FR" sz="800" spc="-1" strike="noStrike">
                <a:solidFill>
                  <a:srgbClr val="0000ff"/>
                </a:solidFill>
                <a:latin typeface="Times New Roman"/>
              </a:rPr>
              <a:t> GEI to GE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12760" y="8137440"/>
            <a:ext cx="2911320" cy="1465560"/>
            <a:chOff x="212760" y="8137440"/>
            <a:chExt cx="2911320" cy="1465560"/>
          </a:xfrm>
        </p:grpSpPr>
        <p:sp>
          <p:nvSpPr>
            <p:cNvPr id="65" name=""/>
            <p:cNvSpPr/>
            <p:nvPr/>
          </p:nvSpPr>
          <p:spPr>
            <a:xfrm>
              <a:off x="212760" y="8137440"/>
              <a:ext cx="2911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ff"/>
                  </a:solidFill>
                  <a:latin typeface="Times New Roman"/>
                </a:rPr>
                <a:t>A precise coordinates systems descriptio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6" name=""/>
            <p:cNvGraphicFramePr/>
            <p:nvPr/>
          </p:nvGraphicFramePr>
          <p:xfrm>
            <a:off x="533520" y="8381880"/>
            <a:ext cx="1143000" cy="1013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33520" y="8381880"/>
                      <a:ext cx="1143000" cy="101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828800" y="8381880"/>
            <a:ext cx="1066680" cy="9525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828800" y="8381880"/>
                      <a:ext cx="106668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" name=""/>
            <p:cNvSpPr/>
            <p:nvPr/>
          </p:nvSpPr>
          <p:spPr>
            <a:xfrm>
              <a:off x="762120" y="935676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ff"/>
                  </a:solidFill>
                  <a:latin typeface="Times New Roman"/>
                </a:rPr>
                <a:t>GE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33720" y="935676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ff"/>
                  </a:solidFill>
                  <a:latin typeface="Times New Roman"/>
                </a:rPr>
                <a:t>GE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465800" y="6934320"/>
            <a:ext cx="2773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fr-FR" sz="1000" spc="-1" strike="noStrike">
                <a:solidFill>
                  <a:srgbClr val="0000ff"/>
                </a:solidFill>
                <a:latin typeface="Times New Roman"/>
              </a:rPr>
              <a:t>transformation subroutine : tgeig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fr-FR" sz="800" spc="-1" strike="noStrike">
                <a:solidFill>
                  <a:srgbClr val="3333cc"/>
                </a:solidFill>
                <a:latin typeface="Times New Roman"/>
              </a:rPr>
              <a:t>subroutine </a:t>
            </a: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tgeigeo(xgei,ygei,zgei,xgeo,ygeo,zge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1" i="1" lang="en-GB" sz="800" spc="-1" strike="noStrike">
                <a:solidFill>
                  <a:srgbClr val="3333cc"/>
                </a:solidFill>
                <a:latin typeface="Times New Roman"/>
              </a:rPr>
              <a:t>transforms_gei_to_geo</a:t>
            </a:r>
            <a:r>
              <a:rPr b="0" i="1" lang="en-GB" sz="800" spc="-1" strike="noStrike">
                <a:solidFill>
                  <a:srgbClr val="3333cc"/>
                </a:solidFill>
                <a:latin typeface="Times New Roman"/>
              </a:rPr>
              <a:t> :  GEI =&gt; GEO  syst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input : xgei,ygei,zgei   Cartesian gei coordinates 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            output: xgeo,ygeo,zgeo   Cartesian geo coordina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28800" y="7315200"/>
            <a:ext cx="1295280" cy="8380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19720" y="7162920"/>
            <a:ext cx="3045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47720" y="7924680"/>
            <a:ext cx="182196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3333cc"/>
                </a:solidFill>
                <a:latin typeface="Times New Roman"/>
              </a:rPr>
              <a:t>ROCOTLIB</a:t>
            </a: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 is written in Fortran 77 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and compatible with Fortran 90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It will be soon available in the IDL 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and PV-Waves programming languag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Addtionnal modules are provided for :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- dates and time conversions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- computations of useful parameters 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(Direction of the Sun, dipole…)</a:t>
            </a:r>
            <a:br>
              <a:rPr sz="800"/>
            </a:b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et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4191120"/>
            <a:ext cx="1066680" cy="30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6666"/>
                </a:solidFill>
                <a:latin typeface="Times New Roman"/>
              </a:rPr>
              <a:t>Magl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04920" y="4605480"/>
            <a:ext cx="1965240" cy="1073160"/>
            <a:chOff x="304920" y="4605480"/>
            <a:chExt cx="1965240" cy="1073160"/>
          </a:xfrm>
        </p:grpSpPr>
        <p:sp>
          <p:nvSpPr>
            <p:cNvPr id="78" name=""/>
            <p:cNvSpPr/>
            <p:nvPr/>
          </p:nvSpPr>
          <p:spPr>
            <a:xfrm>
              <a:off x="304920" y="4640400"/>
              <a:ext cx="72216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00" spc="-1" strike="noStrike">
                  <a:solidFill>
                    <a:srgbClr val="006666"/>
                  </a:solidFill>
                  <a:latin typeface="Times New Roman"/>
                </a:rPr>
                <a:t>A full set of  documentation :  Users manual  Reference manual  Mathematics  manual</a:t>
              </a:r>
              <a:r>
                <a:rPr b="1" lang="en-GB" sz="500" spc="-1" strike="noStrike">
                  <a:solidFill>
                    <a:srgbClr val="0000ff"/>
                  </a:solidFill>
                  <a:latin typeface="Times New Roman"/>
                </a:rPr>
                <a:t>	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10"/>
            <a:stretch/>
          </p:blipFill>
          <p:spPr>
            <a:xfrm>
              <a:off x="896760" y="4605480"/>
              <a:ext cx="1373400" cy="1073160"/>
            </a:xfrm>
            <a:prstGeom prst="rect">
              <a:avLst/>
            </a:prstGeom>
            <a:ln w="9360">
              <a:solidFill>
                <a:srgbClr val="006666"/>
              </a:solidFill>
              <a:miter/>
            </a:ln>
          </p:spPr>
        </p:pic>
      </p:grpSp>
      <p:sp>
        <p:nvSpPr>
          <p:cNvPr id="80" name=""/>
          <p:cNvSpPr/>
          <p:nvPr/>
        </p:nvSpPr>
        <p:spPr>
          <a:xfrm>
            <a:off x="5105520" y="4218120"/>
            <a:ext cx="1828800" cy="20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fr-FR" sz="1000" spc="-1" strike="noStrike">
                <a:solidFill>
                  <a:srgbClr val="006666"/>
                </a:solidFill>
                <a:latin typeface="Times New Roman"/>
              </a:rPr>
              <a:t>Main topics</a:t>
            </a:r>
            <a:br>
              <a:rPr sz="1000"/>
            </a:b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Coordinate transformations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Boundaries and regions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Internal Magnetic field models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External Magnetic field models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Conjugate points calculation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Magnetospheric physics calculations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Astronomy and celestial mechanics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Mathematics</a:t>
            </a:r>
            <a:br>
              <a:rPr sz="1000"/>
            </a:br>
            <a:r>
              <a:rPr b="0" sz="1000" spc="-1" strike="noStrike">
                <a:solidFill>
                  <a:srgbClr val="006666"/>
                </a:solidFill>
                <a:latin typeface="Times New Roman"/>
              </a:rPr>
              <a:t>Date calcul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666880" y="4191120"/>
            <a:ext cx="1981440" cy="1145880"/>
            <a:chOff x="2666880" y="4191120"/>
            <a:chExt cx="1981440" cy="1145880"/>
          </a:xfrm>
        </p:grpSpPr>
        <p:pic>
          <p:nvPicPr>
            <p:cNvPr id="82" name="" descr=""/>
            <p:cNvPicPr/>
            <p:nvPr/>
          </p:nvPicPr>
          <p:blipFill>
            <a:blip r:embed="rId11"/>
            <a:stretch/>
          </p:blipFill>
          <p:spPr>
            <a:xfrm>
              <a:off x="3276720" y="4267080"/>
              <a:ext cx="1295280" cy="1013040"/>
            </a:xfrm>
            <a:prstGeom prst="rect">
              <a:avLst/>
            </a:prstGeom>
            <a:ln w="9360">
              <a:solidFill>
                <a:srgbClr val="006666"/>
              </a:solidFill>
              <a:miter/>
            </a:ln>
          </p:spPr>
        </p:pic>
        <p:grpSp>
          <p:nvGrpSpPr>
            <p:cNvPr id="83" name=""/>
            <p:cNvGrpSpPr/>
            <p:nvPr/>
          </p:nvGrpSpPr>
          <p:grpSpPr>
            <a:xfrm>
              <a:off x="2666880" y="4191120"/>
              <a:ext cx="1981440" cy="1145880"/>
              <a:chOff x="2666880" y="4191120"/>
              <a:chExt cx="1981440" cy="1145880"/>
            </a:xfrm>
          </p:grpSpPr>
          <p:sp>
            <p:nvSpPr>
              <p:cNvPr id="84" name=""/>
              <p:cNvSpPr/>
              <p:nvPr/>
            </p:nvSpPr>
            <p:spPr>
              <a:xfrm>
                <a:off x="2666880" y="4262400"/>
                <a:ext cx="722520" cy="4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500" spc="-1" strike="noStrike">
                    <a:solidFill>
                      <a:srgbClr val="006666"/>
                    </a:solidFill>
                    <a:latin typeface="Times New Roman"/>
                  </a:rPr>
                  <a:t>The Reference manual describes each  elementary module</a:t>
                </a:r>
                <a:r>
                  <a:rPr b="1" lang="en-GB" sz="500" spc="-1" strike="noStrike">
                    <a:solidFill>
                      <a:srgbClr val="0000ff"/>
                    </a:solidFill>
                    <a:latin typeface="Times New Roman"/>
                  </a:rPr>
                  <a:t>	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666880" y="4191120"/>
                <a:ext cx="1981440" cy="114588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" name=""/>
          <p:cNvGrpSpPr/>
          <p:nvPr/>
        </p:nvGrpSpPr>
        <p:grpSpPr>
          <a:xfrm>
            <a:off x="3124080" y="5329080"/>
            <a:ext cx="1905120" cy="1009800"/>
            <a:chOff x="3124080" y="5329080"/>
            <a:chExt cx="1905120" cy="1009800"/>
          </a:xfrm>
        </p:grpSpPr>
        <p:sp>
          <p:nvSpPr>
            <p:cNvPr id="87" name=""/>
            <p:cNvSpPr/>
            <p:nvPr/>
          </p:nvSpPr>
          <p:spPr>
            <a:xfrm>
              <a:off x="3124080" y="5329080"/>
              <a:ext cx="7225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00" spc="-1" strike="noStrike">
                  <a:solidFill>
                    <a:srgbClr val="006666"/>
                  </a:solidFill>
                  <a:latin typeface="Times New Roman"/>
                </a:rPr>
                <a:t>The users manual describes  each program that uses several elementary modules for more complex caclulations</a:t>
              </a:r>
              <a:r>
                <a:rPr b="1" lang="en-GB" sz="500" spc="-1" strike="noStrike">
                  <a:solidFill>
                    <a:srgbClr val="0000ff"/>
                  </a:solidFill>
                  <a:latin typeface="Times New Roman"/>
                </a:rPr>
                <a:t>    </a:t>
              </a:r>
              <a:r>
                <a:rPr b="1" lang="en-GB" sz="500" spc="-1" strike="noStrike">
                  <a:solidFill>
                    <a:srgbClr val="0000ff"/>
                  </a:solidFill>
                  <a:latin typeface="Times New Roman"/>
                </a:rPr>
                <a:t>	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12"/>
            <a:stretch/>
          </p:blipFill>
          <p:spPr>
            <a:xfrm>
              <a:off x="3733920" y="5334120"/>
              <a:ext cx="1295280" cy="1004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"/>
          <p:cNvGrpSpPr/>
          <p:nvPr/>
        </p:nvGrpSpPr>
        <p:grpSpPr>
          <a:xfrm>
            <a:off x="990720" y="5638680"/>
            <a:ext cx="1981080" cy="1146240"/>
            <a:chOff x="990720" y="5638680"/>
            <a:chExt cx="1981080" cy="1146240"/>
          </a:xfrm>
        </p:grpSpPr>
        <p:grpSp>
          <p:nvGrpSpPr>
            <p:cNvPr id="90" name=""/>
            <p:cNvGrpSpPr/>
            <p:nvPr/>
          </p:nvGrpSpPr>
          <p:grpSpPr>
            <a:xfrm>
              <a:off x="990720" y="5638680"/>
              <a:ext cx="1981080" cy="1146240"/>
              <a:chOff x="990720" y="5638680"/>
              <a:chExt cx="1981080" cy="1146240"/>
            </a:xfrm>
          </p:grpSpPr>
          <p:sp>
            <p:nvSpPr>
              <p:cNvPr id="91" name=""/>
              <p:cNvSpPr/>
              <p:nvPr/>
            </p:nvSpPr>
            <p:spPr>
              <a:xfrm>
                <a:off x="990720" y="5710320"/>
                <a:ext cx="722160" cy="54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500" spc="-1" strike="noStrike">
                    <a:solidFill>
                      <a:srgbClr val="006666"/>
                    </a:solidFill>
                    <a:latin typeface="Times New Roman"/>
                  </a:rPr>
                  <a:t>The mathematics manual describes the used mathematical solutions</a:t>
                </a:r>
                <a:r>
                  <a:rPr b="1" lang="en-GB" sz="500" spc="-1" strike="noStrike">
                    <a:solidFill>
                      <a:srgbClr val="0000ff"/>
                    </a:solidFill>
                    <a:latin typeface="Times New Roman"/>
                  </a:rPr>
                  <a:t>     </a:t>
                </a:r>
                <a:r>
                  <a:rPr b="1" lang="en-GB" sz="500" spc="-1" strike="noStrike">
                    <a:solidFill>
                      <a:srgbClr val="0000ff"/>
                    </a:solidFill>
                    <a:latin typeface="Times New Roman"/>
                  </a:rPr>
                  <a:t>	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990720" y="5638680"/>
                <a:ext cx="1981080" cy="114624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3" name="" descr=""/>
            <p:cNvPicPr/>
            <p:nvPr/>
          </p:nvPicPr>
          <p:blipFill>
            <a:blip r:embed="rId13"/>
            <a:stretch/>
          </p:blipFill>
          <p:spPr>
            <a:xfrm>
              <a:off x="1600200" y="5715000"/>
              <a:ext cx="1295280" cy="1022400"/>
            </a:xfrm>
            <a:prstGeom prst="rect">
              <a:avLst/>
            </a:prstGeom>
            <a:ln w="9360">
              <a:solidFill>
                <a:srgbClr val="006666"/>
              </a:solidFill>
              <a:miter/>
            </a:ln>
          </p:spPr>
        </p:pic>
      </p:grpSp>
      <p:sp>
        <p:nvSpPr>
          <p:cNvPr id="94" name=""/>
          <p:cNvSpPr/>
          <p:nvPr/>
        </p:nvSpPr>
        <p:spPr>
          <a:xfrm>
            <a:off x="5099040" y="6400800"/>
            <a:ext cx="149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6666"/>
                </a:solidFill>
                <a:latin typeface="Times New Roman"/>
              </a:rPr>
              <a:t>Maglib</a:t>
            </a:r>
            <a:r>
              <a:rPr b="0" lang="en-GB" sz="800" spc="-1" strike="noStrike">
                <a:solidFill>
                  <a:srgbClr val="006666"/>
                </a:solidFill>
                <a:latin typeface="Times New Roman"/>
              </a:rPr>
              <a:t> is written in Fortran 77</a:t>
            </a:r>
            <a:r>
              <a:rPr b="0" lang="en-GB" sz="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57200" y="1905120"/>
            <a:ext cx="2286000" cy="1717560"/>
            <a:chOff x="457200" y="1905120"/>
            <a:chExt cx="2286000" cy="1717560"/>
          </a:xfrm>
        </p:grpSpPr>
        <p:pic>
          <p:nvPicPr>
            <p:cNvPr id="96" name="" descr=""/>
            <p:cNvPicPr/>
            <p:nvPr/>
          </p:nvPicPr>
          <p:blipFill>
            <a:blip r:embed="rId14"/>
            <a:stretch/>
          </p:blipFill>
          <p:spPr>
            <a:xfrm>
              <a:off x="457200" y="1905120"/>
              <a:ext cx="2133720" cy="17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1681200" y="2725560"/>
              <a:ext cx="317520" cy="8604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05120" y="2819520"/>
              <a:ext cx="838080" cy="1522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1905120" y="1905120"/>
              <a:ext cx="838080" cy="761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28600" y="4114800"/>
            <a:ext cx="6705720" cy="2666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6858000"/>
            <a:ext cx="6781680" cy="289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14:01:45Z</dcterms:created>
  <dc:creator>lis</dc:creator>
  <dc:description/>
  <dc:language>en-US</dc:language>
  <cp:lastModifiedBy>robert</cp:lastModifiedBy>
  <cp:lastPrinted>2003-02-05T16:43:25Z</cp:lastPrinted>
  <dcterms:modified xsi:type="dcterms:W3CDTF">2003-02-05T16:50:02Z</dcterms:modified>
  <cp:revision>106</cp:revision>
  <dc:subject/>
  <dc:title>Welcome to the Grenoble EISCAT data base  Laboratoire de planétologie de Grenoble</dc:title>
</cp:coreProperties>
</file>