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555288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4B5-5FF9-4353-AAB0-BCADFED8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0E9-2A94-4FA5-BD6E-E35B4077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A99-EAEB-4E78-8865-9FD892F6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2332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376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288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2332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70376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860-D31C-44C4-B5D3-B08A25AA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4BA-8EDB-48C7-B575-A800E184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54B-872F-4B80-B360-1503EC63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870-526E-43B4-8E78-91BDEEFA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A7F-0C38-43B0-B01B-CF98CA43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42880" y="936720"/>
            <a:ext cx="615312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E22-E09C-456D-80EE-BA542A87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F1A-6DD7-4CDC-BAE7-C0C61320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62A-FCC2-41D4-A02D-0FE843E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3BE-2451-4115-A3F0-D12B35A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copernicus.org/egsagueug/index.html" TargetMode="External"/><Relationship Id="rId7" Type="http://schemas.openxmlformats.org/officeDocument/2006/relationships/hyperlink" Target="http://www.copernicus.org/egsagueug/index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57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9480" indent="-2523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617040"/>
            <a:ext cx="229248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B17211A2-05D1-4807-9A69-E62EB9544B36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9982080"/>
            <a:ext cx="695016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9982080"/>
            <a:ext cx="556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DPP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is jointly funded by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E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Space Agency) and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R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National Centre for Scientific Resear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71280"/>
            <a:ext cx="1274760" cy="846360"/>
          </a:xfrm>
          <a:prstGeom prst="rect">
            <a:avLst/>
          </a:prstGeom>
          <a:ln w="0">
            <a:noFill/>
          </a:ln>
        </p:spPr>
      </p:pic>
      <p:pic>
        <p:nvPicPr>
          <p:cNvPr id="8" name="logo_cnes" descr=""/>
          <p:cNvPicPr/>
          <p:nvPr/>
        </p:nvPicPr>
        <p:blipFill>
          <a:blip r:embed="rId4"/>
          <a:stretch/>
        </p:blipFill>
        <p:spPr>
          <a:xfrm>
            <a:off x="2133720" y="10134720"/>
            <a:ext cx="380880" cy="315720"/>
          </a:xfrm>
          <a:prstGeom prst="rect">
            <a:avLst/>
          </a:prstGeom>
          <a:ln w="0">
            <a:noFill/>
          </a:ln>
        </p:spPr>
      </p:pic>
      <p:pic>
        <p:nvPicPr>
          <p:cNvPr id="9" name="LogoCNRSMoyen" descr=""/>
          <p:cNvPicPr/>
          <p:nvPr/>
        </p:nvPicPr>
        <p:blipFill>
          <a:blip r:embed="rId5"/>
          <a:stretch/>
        </p:blipFill>
        <p:spPr>
          <a:xfrm>
            <a:off x="4724280" y="10210680"/>
            <a:ext cx="468360" cy="235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514600" y="1033956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Nice-2003: EGS-AGU-EUG Joint </a:t>
            </a: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1371600"/>
            <a:ext cx="6950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52280" y="1523880"/>
            <a:ext cx="6934320" cy="83059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D. P. P.</a:t>
            </a:r>
            <a:br>
              <a:rPr sz="2800"/>
            </a:b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The MAGLIB and ROCOTLIB software libraries</a:t>
            </a:r>
            <a:br>
              <a:rPr sz="21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ttp://cdpp.cesr.fr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-mail: cdpp@cesr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7720" y="5607000"/>
            <a:ext cx="20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3880" y="3486240"/>
            <a:ext cx="552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2043000" y="4749840"/>
          <a:ext cx="11365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043000" y="4749840"/>
                    <a:ext cx="11365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66880" y="1066680"/>
            <a:ext cx="30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7360" y="1676520"/>
            <a:ext cx="421956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The </a:t>
            </a:r>
            <a:r>
              <a:rPr b="1" lang="fr-FR" sz="12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library is a large set of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general Geographic, Geophysics </a:t>
            </a:r>
            <a:br>
              <a:rPr sz="1000"/>
            </a:b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and Geomagnetic calculation modules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developed by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Jean-Claude Kosik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(French Space Agency). It results from a thirty-year experience in mission analysis and geophysics software for magnetospheric projects as well as personal research on charged particle motion and quantitative magnetic field modelling</a:t>
            </a:r>
            <a:r>
              <a:rPr b="0" lang="fr-FR" sz="1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 library (RObert’s COordinate Transformation LIBrary)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has been developed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by Patrick Robert 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(CNRS/CETP - Centre d'étude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des Environnements Terrestre et Planétaires - France). It is a set of modules to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perform transformations between the various coordinate systems used in geophysical and magnetospheric studies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934320"/>
            <a:ext cx="121896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Rocot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29936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12 coordinates systems :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I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centric Equatorial Inertial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O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graph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MAG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magnet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800"/>
            </a:b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and also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SE,GSEQ, GSM, SM, DM,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VDH, SR, SR2, MF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7848720"/>
            <a:ext cx="2590560" cy="1922400"/>
            <a:chOff x="3048120" y="7848720"/>
            <a:chExt cx="2590560" cy="1922400"/>
          </a:xfrm>
        </p:grpSpPr>
        <p:graphicFrame>
          <p:nvGraphicFramePr>
            <p:cNvPr id="59" name=""/>
            <p:cNvGraphicFramePr/>
            <p:nvPr/>
          </p:nvGraphicFramePr>
          <p:xfrm>
            <a:off x="3209760" y="7848720"/>
            <a:ext cx="2023920" cy="17031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9760" y="7848720"/>
                      <a:ext cx="202392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048120" y="952488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Times New Roman"/>
                </a:rPr>
                <a:t>Schematic diagram of transform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42800" y="3870360"/>
            <a:ext cx="631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660066"/>
                </a:solidFill>
                <a:latin typeface="Times New Roman"/>
              </a:rPr>
              <a:t>Both libraries are freely delivered with portable source code, test programs, mathematical description and user manual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6934320"/>
            <a:ext cx="302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A mathematical description </a:t>
            </a:r>
            <a:br>
              <a:rPr sz="1000"/>
            </a:b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of each transformation e.g.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EI to G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760" y="8137440"/>
            <a:ext cx="2911320" cy="1465560"/>
            <a:chOff x="212760" y="8137440"/>
            <a:chExt cx="2911320" cy="1465560"/>
          </a:xfrm>
        </p:grpSpPr>
        <p:sp>
          <p:nvSpPr>
            <p:cNvPr id="65" name=""/>
            <p:cNvSpPr/>
            <p:nvPr/>
          </p:nvSpPr>
          <p:spPr>
            <a:xfrm>
              <a:off x="212760" y="8137440"/>
              <a:ext cx="29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ff"/>
                  </a:solidFill>
                  <a:latin typeface="Times New Roman"/>
                </a:rPr>
                <a:t>A precise coordinates systems descrip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33520" y="8381880"/>
            <a:ext cx="1143000" cy="101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8381880"/>
                      <a:ext cx="114300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828800" y="8381880"/>
            <a:ext cx="1066680" cy="95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8381880"/>
                      <a:ext cx="10666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7621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65800" y="6934320"/>
            <a:ext cx="277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transformation subroutine : tgeig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800" spc="-1" strike="noStrike">
                <a:solidFill>
                  <a:srgbClr val="3333cc"/>
                </a:solidFill>
                <a:latin typeface="Times New Roman"/>
              </a:rPr>
              <a:t>subroutine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tgeigeo(xgei,ygei,zgei,xgeo,ygeo,zge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i="1" lang="en-GB" sz="800" spc="-1" strike="noStrike">
                <a:solidFill>
                  <a:srgbClr val="3333cc"/>
                </a:solidFill>
                <a:latin typeface="Times New Roman"/>
              </a:rPr>
              <a:t>transforms_gei_to_geo</a:t>
            </a: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:  GEI =&gt; GEO 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nput : xgei,ygei,zgei   Cartesian gei coordinate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output: xgeo,ygeo,zgeo   Cartesian geo coordin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7315200"/>
            <a:ext cx="129528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7162920"/>
            <a:ext cx="304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7720" y="7924680"/>
            <a:ext cx="18219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is written in Fortran 77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compatible with Fortran 90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t will be soon available in the IDL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PV-Waves programming langu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ddtionnal modules are provided for :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dates and time conversions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computations of useful parameter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(Direction of the Sun, dipole…)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91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4605480"/>
            <a:ext cx="1965240" cy="1073160"/>
            <a:chOff x="304920" y="4605480"/>
            <a:chExt cx="1965240" cy="1073160"/>
          </a:xfrm>
        </p:grpSpPr>
        <p:sp>
          <p:nvSpPr>
            <p:cNvPr id="78" name=""/>
            <p:cNvSpPr/>
            <p:nvPr/>
          </p:nvSpPr>
          <p:spPr>
            <a:xfrm>
              <a:off x="304920" y="4640400"/>
              <a:ext cx="7221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A full set of  documentation :  Users manual  Reference manual  Mathematics  manual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896760" y="4605480"/>
              <a:ext cx="1373400" cy="107316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80" name=""/>
          <p:cNvSpPr/>
          <p:nvPr/>
        </p:nvSpPr>
        <p:spPr>
          <a:xfrm>
            <a:off x="5105520" y="4218120"/>
            <a:ext cx="1828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Main topics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ordinate transform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Boundaries and reg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In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Ex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njugate points calculation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gnetospheric physics calcul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Astronomy and celestial mechan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themat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Date calcu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66880" y="4191120"/>
            <a:ext cx="1981440" cy="1145880"/>
            <a:chOff x="2666880" y="4191120"/>
            <a:chExt cx="1981440" cy="1145880"/>
          </a:xfrm>
        </p:grpSpPr>
        <p:pic>
          <p:nvPicPr>
            <p:cNvPr id="82" name="" descr=""/>
            <p:cNvPicPr/>
            <p:nvPr/>
          </p:nvPicPr>
          <p:blipFill>
            <a:blip r:embed="rId11"/>
            <a:stretch/>
          </p:blipFill>
          <p:spPr>
            <a:xfrm>
              <a:off x="3276720" y="4267080"/>
              <a:ext cx="1295280" cy="1013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2666880" y="4191120"/>
              <a:ext cx="1981440" cy="1145880"/>
              <a:chOff x="2666880" y="4191120"/>
              <a:chExt cx="1981440" cy="114588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4262400"/>
                <a:ext cx="72252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Reference manual describes each  elementary module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66880" y="4191120"/>
                <a:ext cx="1981440" cy="1145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124080" y="5329080"/>
            <a:ext cx="1905120" cy="1009800"/>
            <a:chOff x="3124080" y="5329080"/>
            <a:chExt cx="1905120" cy="1009800"/>
          </a:xfrm>
        </p:grpSpPr>
        <p:sp>
          <p:nvSpPr>
            <p:cNvPr id="87" name=""/>
            <p:cNvSpPr/>
            <p:nvPr/>
          </p:nvSpPr>
          <p:spPr>
            <a:xfrm>
              <a:off x="3124080" y="5329080"/>
              <a:ext cx="722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The users manual describes  each program that uses several elementary modules for more complex caclulations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2"/>
            <a:stretch/>
          </p:blipFill>
          <p:spPr>
            <a:xfrm>
              <a:off x="3733920" y="5334120"/>
              <a:ext cx="12952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990720" y="5638680"/>
            <a:ext cx="1981080" cy="1146240"/>
            <a:chOff x="990720" y="5638680"/>
            <a:chExt cx="1981080" cy="114624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5638680"/>
              <a:ext cx="1981080" cy="1146240"/>
              <a:chOff x="990720" y="5638680"/>
              <a:chExt cx="1981080" cy="11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5710320"/>
                <a:ext cx="7221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mathematics manual describes the used mathematical solutions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90720" y="5638680"/>
                <a:ext cx="1981080" cy="11462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1600200" y="5715000"/>
              <a:ext cx="1295280" cy="102240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94" name=""/>
          <p:cNvSpPr/>
          <p:nvPr/>
        </p:nvSpPr>
        <p:spPr>
          <a:xfrm>
            <a:off x="5099040" y="6400800"/>
            <a:ext cx="149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en-GB" sz="800" spc="-1" strike="noStrike">
                <a:solidFill>
                  <a:srgbClr val="006666"/>
                </a:solidFill>
                <a:latin typeface="Times New Roman"/>
              </a:rPr>
              <a:t> is written in Fortran 77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905120"/>
            <a:ext cx="2286000" cy="1717560"/>
            <a:chOff x="457200" y="1905120"/>
            <a:chExt cx="2286000" cy="171756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457200" y="1905120"/>
              <a:ext cx="21337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81200" y="2725560"/>
              <a:ext cx="317520" cy="8604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2819520"/>
              <a:ext cx="8380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905120" y="1905120"/>
              <a:ext cx="838080" cy="76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4114800"/>
            <a:ext cx="670572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0"/>
            <a:ext cx="678168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4:01:45Z</dcterms:created>
  <dc:creator>lis</dc:creator>
  <dc:description/>
  <dc:language>en-US</dc:language>
  <cp:lastModifiedBy>robert</cp:lastModifiedBy>
  <cp:lastPrinted>2003-02-05T16:43:25Z</cp:lastPrinted>
  <dcterms:modified xsi:type="dcterms:W3CDTF">2003-02-05T16:50:02Z</dcterms:modified>
  <cp:revision>106</cp:revision>
  <dc:subject/>
  <dc:title>Welcome to the Grenoble EISCAT data base  Laboratoire de planétologie de Grenoble</dc:title>
</cp:coreProperties>
</file>